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E57-2368-4144-9FA7-8DCE1323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6AF-80BF-4A03-84EE-325E15B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7A9-0DDD-4383-8293-D06E62E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CD8-D27A-4991-B483-4F3FF419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45E1-FEAD-4256-AEC1-98D8DC5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C160-459C-4833-B2CC-B93EAF1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6DD-4558-4079-A30C-1258A02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C2F2-8306-45FB-A9E0-30C592D2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73EC-2712-45BA-B512-FE690364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7CCA-5C27-4E97-BAA7-B49D19F1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268-35C8-44E1-837E-70404B9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7A2-B454-4AEF-ADD0-3E09D0D2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133F-11A0-4FC0-A4D9-400098A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562-7F65-420A-AD7A-A4F9CB2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458-1C23-4D75-B97A-F46030D7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2A4-5768-4793-9F13-5A97437B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A821-46EA-4461-A1BE-88E0847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4985-BCD6-4DF7-9697-599B2888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F2AD-7AF8-4768-BFAB-C25E1EC0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43AA-760B-4D95-850A-9475F262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8EF8-6535-4448-908A-5808694D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8F3C-5503-4EB1-B268-89BEF0B9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FED-F779-47DC-9625-8A486110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AC3F-29D5-4431-8EA1-8D996E70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1F65-3CC2-4E9E-9923-975F331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8C09-E7C2-488D-B0C9-0BC7512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557A1-1951-49BD-9278-B136BDD6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D0AB-E983-4EC2-A2A9-CB44E48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3469-7BD3-469B-A6FA-F950FAB5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808C-5C36-4451-AA51-DAB99A99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B8A66-8EE6-4409-B5B6-9F9F830D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C934-1016-4420-A091-4083478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EEC0-8131-4DED-9D33-34EDCB86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DF1-4121-41F5-8E83-1A7389D5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2725-2BFB-4820-A81B-7BE1FF9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7E08-E544-4774-ABD0-29C5DFED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43CC-A235-431E-BE9D-1203CC6F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3E3A-8359-4220-A7FB-CB0A41A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F52F-BB14-487F-98BC-717D47ED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1DC9-9586-4E53-B132-B1821A1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AFA94-ACBD-4755-A2D0-30D630D8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1599-0985-4A5A-B183-732EE487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5955-609A-419D-8D28-3DCB13BF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F5E4-537E-4C9E-9008-B2C133E4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B9F-2D63-4605-9CDF-42F83A6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21BE-FC69-4F96-8B94-37842BD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1100-23D4-4F52-BC8F-428E565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A121-1730-48E8-833C-51B80D0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86946-F662-4ECC-8C66-0636D71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9CB65-62C1-4FC2-AD52-0088782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879C-69C0-40B6-B206-E7618A8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CF8A-6A72-4694-90DA-74D8885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FE5FB-77BD-44A4-80A8-25041F0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1360-FC05-44D6-8512-C0157DAD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E55B-17A6-45C1-AFB5-21C9A0C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CE2-3B28-451C-89C6-84801263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9F33-851F-499A-B3FC-142F7FE6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F5FA-567A-4451-B0B0-AE0381E0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0EE2C-4D48-4EFC-A726-28BDF82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F364E-6349-4F2D-A8E8-FFFBD258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7C67-9E74-4377-953F-1E57DE4E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523C6-EF06-4702-8EF2-5EAABDC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B4E9-86DA-48D7-95CB-018475EA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2572-C4C4-42AB-98B9-C49202E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96130-6A9C-4A34-B663-D6C958C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16235-F3D4-4196-9704-C3C95C11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474-5CF7-4B03-8811-C7FFFD8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F767D-A12D-4037-8538-1FC737E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3293-56BF-472E-A681-CEA21BA1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BB87-7C1C-4BA9-A7DF-2420FC2E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A63-B4D5-4EA2-B481-1F4E9F5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CE4-F4A7-49DA-AD81-BC83450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1EBA-8B0A-460F-8AE0-8850280DC4E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0C5-E1C2-4496-821C-1EF9A508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Shap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E7D-F556-4515-9660-00E7326501D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9FC0-2261-44CF-B29F-00A1A45D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hap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Right Triangle 10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11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F81-A4E7-49AD-B283-07693B5D2B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596-C13D-47BB-8AF2-DB7C5CB88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951-5DF9-49F2-99C8-9FEA84A0B24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BF0-F4B7-457D-B12C-CE1939CA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0D4-6CB4-483D-9A15-0F552F98F66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8465-20E1-49F2-9D80-E9CD849E0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FF86-2ADD-47C1-976C-8E153163D7C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EE9-CA15-466C-813D-A60D61C1B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32920" cy="148140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3" descr=""/>
          <p:cNvPicPr/>
          <p:nvPr/>
        </p:nvPicPr>
        <p:blipFill>
          <a:blip r:embed="rId2"/>
          <a:stretch/>
        </p:blipFill>
        <p:spPr>
          <a:xfrm>
            <a:off x="536400" y="2127240"/>
            <a:ext cx="81741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ponent Syste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r access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urity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twork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stem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Files and Repor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ile component data fi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fine component intrface paramet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function data repor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r access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ftware compatibility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tform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2:24:55Z</dcterms:created>
  <dc:creator>David Beskeen</dc:creator>
  <dc:description/>
  <dc:language>en-US</dc:language>
  <cp:lastModifiedBy>Phil Schneider</cp:lastModifiedBy>
  <dcterms:modified xsi:type="dcterms:W3CDTF">2012-05-09T09:44:47Z</dcterms:modified>
  <cp:revision>23</cp:revision>
  <dc:subject/>
  <dc:title>Product Marketing</dc:title>
</cp:coreProperties>
</file>